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4F29-8EA0-4818-9B7A-A4273F58F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A43C-A5E5-49D6-BD8B-A490774E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9C79-9B12-49A7-9A93-720BC9D16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7FED-046E-486A-B4AC-865DF618A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FAFD-C6D2-4821-94F8-A9552117A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40C8-E087-4F9E-9798-6D92AFA7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E044-2EF4-48CE-B681-881155F1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AB14-CB36-4781-A4DE-758F331C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D445-F2F5-45BB-9FE2-2E80CE8B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6748-1861-4E8E-BBB9-B491303E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EC78-0EE1-43D1-9365-64DCAE45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C05B-2166-4671-B133-CB4CD331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8656-39BF-4FED-AE26-3ED7B4B6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DF72-A6AC-44F5-9169-5F6CC4D5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7A51-0EBD-4A93-A589-9D184680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A5DA-0F83-4AAF-9EC8-EE989D436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C72B-4175-4B84-9630-0DFA8BFE1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1DBE-FE6A-40E1-8EA9-D686C333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1830-BB61-43E1-B319-F53A3FDE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E808-7F41-452B-869A-79180A5C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61DB-CB2C-4E8D-86D9-20A91ABA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A29F-F237-4265-83D0-C1C9274D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B018-E519-4239-AB95-E2905576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81F6-D3C8-4786-BADA-02173C8D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5553-7D60-41E2-B674-8B2355FEF0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DECD5-2B53-4062-BE8B-62A83F9BE4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IR, WE WOULD SEE  JESUS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IFE OF CHRIST PART 1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26668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9, LESS0N 1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 6:22-7:1; MARK 7:24-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70-7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8BCC-D8DA-41E4-8A38-73846F5F52D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E SECOND RETIREMENT 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and His disciples leave Israel proper and go into vicinity of Tyre and Sidon - Mt. 15: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entile woman with a demon-possessed young daughter came to Jesus - Mt. 15:2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says “I was not sent except to the lost sheep of the house of Israel” - Mt. 15: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001F-3F9F-4BA7-A376-1DACF0695DB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8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3" dur="2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2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E SECOND RETIREMENT (CONT.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man worships and says “Lord, help me” - Mt. 15: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answers “it is not good to take the children’s bread and cast it to the little  dogs” - Mt. 15:2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E6CD-0ED7-4336-A4A3-11A97E0FB2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E SECOND RETIREMENT (CONT.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man replies “true, Lord, yet the little dogs eat the crumbs which fall from the master’s table” - Mt. 15: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said “O woman, great is your faith: let it be to you as you desire” - Mt. 15: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is exchange, Jesus was not being cruel nor unfeeling or insulting; He was making the point that His mission was among the Jews and the woman seemed to underst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253F-835C-43E3-8A2F-89132F6354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9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1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9" dur="10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364240" cy="6002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 flipH="1" flipV="1">
            <a:off x="6248160" y="1219320"/>
            <a:ext cx="1600200" cy="83808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429000" y="685800"/>
            <a:ext cx="1905120" cy="609480"/>
          </a:xfrm>
          <a:prstGeom prst="line">
            <a:avLst/>
          </a:prstGeom>
          <a:ln w="76320">
            <a:solidFill>
              <a:srgbClr val="008a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971800" y="1676160"/>
            <a:ext cx="2286000" cy="685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06FA-597E-425C-9B72-BBFF9B92AC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FIRST RETIREMEN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xt day after walking on the water, Jesus is not found in Bethsaida – John 6:22-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eople find Jesus at Capernaum –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John 6:25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responds to the people by saying “you hunt for me not because of the signs but because you ate of the loaves …” – John 6:2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tells them to labor for the food that gives eternal life – John 6:2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B5DB-1A64-4A9C-8D6E-DBDF4D0437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FIRST RETIREMEN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eople soon become antagonis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sk “what must we do to do the works of God?” - John 6:2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62E6-C735-4918-AFB4-FFDBBD568A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FIRST RETIREMENT (Cont.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nswer to their question, Jesus tells the multitude the work God would have them do is to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eliev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 the One He had sent – John 6:2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sking for a sign, the people ignored the miracle they had witnessed: the feeding of a vast multitu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eople speak of physical bread (manna); Jesus speaks of spiritual bread saying “I am the bread of life…”- John 6: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9B26-2131-4ED0-9B72-17C84B6DA03E}" type="slidenum">
              <a:t>5</a:t>
            </a:fld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FIRST RETIREMENT (Cont.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claims to be bread from heaven, the Jews begin to murmur against  Him –  John 6:41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answers “the bread which I shall give is my flesh” – John 6:5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F3EF-5A97-4938-B53F-0EA0A20F7682}" type="slidenum">
              <a:t>6</a:t>
            </a:fld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FIRST RETIREMENT (Cont.)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ho eats my flesh and drinks my blood has eternal life” – John 6: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followers said “this is a hard saying. Who can accept it?” – John 6: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this point, many of Jesus’ followers stopped walking with Him – John 6:6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asked the twelve “will you also go away?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ter replied “Lord, to whom shall we go? You have the words of eternal life” – John 6:6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9535-6F27-482D-A6F0-D68EA82D41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FIRST RETIREMENT (cont.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position to Jesus gr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did not want to walk in Judea because there the Jews sought to kill Him -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hn 7: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re had been plots to kill Him at Galilee als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ribes and Pharisees come from Jerusalem asking about their tradition of washing hands before eating – Mt. 15:1-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BDC5-6B1F-4D60-8280-D1EE7E2749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FIRST RETIREMENT (cont.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first asks them about honoring father and mother – Mt. 15:4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, what defiles a man?  What follows is answer to hand-washing qu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arisees are “blind leaders of the blind.”  - Mt. 15: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BD07-FE1D-4D8A-A55E-00AF2FE53E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5T04:42:06Z</dcterms:created>
  <dc:creator>billy lauderdale</dc:creator>
  <dc:description/>
  <dc:language>en-US</dc:language>
  <cp:lastModifiedBy>Frank D Vines</cp:lastModifiedBy>
  <dcterms:modified xsi:type="dcterms:W3CDTF">2006-09-16T15:04:37Z</dcterms:modified>
  <cp:revision>60</cp:revision>
  <dc:subject/>
  <dc:title>LIFE OF CHRIST</dc:title>
</cp:coreProperties>
</file>